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.wav" ContentType="audio/x-wav"/>
  <Override PartName="/ppt/media/jeopardy1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40550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2DB-9AD7-4231-9980-C5E4BFA1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920-7729-4278-B6C1-E26B31B5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2E1-D12F-4FF3-A9AD-2B5EC03C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6FE-A07F-42F4-88EA-07FC18E8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94FC-CD11-4D5D-B1A5-99D03A38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C6F4-C704-4496-B3F3-F45D662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2323-60E2-4882-B40C-C0983654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329C-FEB9-4B95-9E0C-170A2AB9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8C01-7995-4609-A03D-C5049744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81C3-85B2-4EAD-A3E7-34086B8A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CD20-1909-4829-9FB1-CD61D10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449-E1A7-4CC6-9AEA-A1A01A27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FF48-A39C-4F62-8486-F7E2D2E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59C-E2F3-486E-8D79-80F4EE9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2ABC-4695-46D8-A8DF-C6C89915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C848-1AAC-4BBF-9F9E-B737E09F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7946-3038-477D-8B1F-FF23342E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843-B93F-4495-8FF7-08B2944E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F75-E732-423E-A250-D8A1C22C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813-C5A2-4403-80A3-52535E1B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219-38C7-4635-916C-BA3D2635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AA9-1BF6-4D44-8A93-0AB05E6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369-61BA-4C58-A469-B7C5A8C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893-6C72-4456-AF3B-8867120B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1" marL="393480" indent="-151200">
              <a:spcBef>
                <a:spcPts val="1500"/>
              </a:spcBef>
              <a:buClr>
                <a:srgbClr val="a2321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2" marL="60552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3" marL="84780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4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5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6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1BBF-EF1C-4EDE-A484-3AA6C3010D1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263D-69D8-45EF-9940-8BC6AA96EDA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OSMIC.WAV" TargetMode="Externa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audio" Target="../media/jeopardy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747800"/>
            <a:ext cx="1301760" cy="808200"/>
          </a:xfrm>
          <a:custGeom>
            <a:avLst/>
            <a:gdLst>
              <a:gd name="textAreaLeft" fmla="*/ 52200 w 1301760"/>
              <a:gd name="textAreaRight" fmla="*/ 1249560 w 130176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4785" h="21600">
                <a:moveTo>
                  <a:pt x="0" y="0"/>
                </a:moveTo>
                <a:lnTo>
                  <a:pt x="34785" y="0"/>
                </a:lnTo>
                <a:lnTo>
                  <a:pt x="34785" y="21600"/>
                </a:lnTo>
                <a:lnTo>
                  <a:pt x="0" y="21600"/>
                </a:lnTo>
                <a:close/>
              </a:path>
              <a:path fill="lightenLess" w="34785" h="21600">
                <a:moveTo>
                  <a:pt x="0" y="0"/>
                </a:moveTo>
                <a:lnTo>
                  <a:pt x="34785" y="0"/>
                </a:lnTo>
                <a:lnTo>
                  <a:pt x="33385" y="1400"/>
                </a:lnTo>
                <a:lnTo>
                  <a:pt x="1400" y="1400"/>
                </a:lnTo>
                <a:close/>
              </a:path>
              <a:path fill="darken" w="34785" h="21600">
                <a:moveTo>
                  <a:pt x="34785" y="0"/>
                </a:moveTo>
                <a:lnTo>
                  <a:pt x="34785" y="21600"/>
                </a:lnTo>
                <a:lnTo>
                  <a:pt x="33385" y="20200"/>
                </a:lnTo>
                <a:lnTo>
                  <a:pt x="33385" y="1400"/>
                </a:lnTo>
                <a:close/>
              </a:path>
              <a:path fill="darkenLess" w="34785" h="21600">
                <a:moveTo>
                  <a:pt x="34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5" y="20200"/>
                </a:lnTo>
                <a:close/>
              </a:path>
              <a:path fill="lighten" w="34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tter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lgebra Jeopardy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38920" y="1747800"/>
            <a:ext cx="1531800" cy="808200"/>
          </a:xfrm>
          <a:custGeom>
            <a:avLst/>
            <a:gdLst>
              <a:gd name="textAreaLeft" fmla="*/ 52200 w 1531800"/>
              <a:gd name="textAreaRight" fmla="*/ 1479600 w 153180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40930" h="21600">
                <a:moveTo>
                  <a:pt x="0" y="0"/>
                </a:moveTo>
                <a:lnTo>
                  <a:pt x="40930" y="0"/>
                </a:lnTo>
                <a:lnTo>
                  <a:pt x="40930" y="21600"/>
                </a:lnTo>
                <a:lnTo>
                  <a:pt x="0" y="21600"/>
                </a:lnTo>
                <a:close/>
              </a:path>
              <a:path fill="lightenLess" w="40930" h="21600">
                <a:moveTo>
                  <a:pt x="0" y="0"/>
                </a:moveTo>
                <a:lnTo>
                  <a:pt x="40930" y="0"/>
                </a:lnTo>
                <a:lnTo>
                  <a:pt x="39530" y="1400"/>
                </a:lnTo>
                <a:lnTo>
                  <a:pt x="1400" y="1400"/>
                </a:lnTo>
                <a:close/>
              </a:path>
              <a:path fill="darken" w="40930" h="21600">
                <a:moveTo>
                  <a:pt x="40930" y="0"/>
                </a:moveTo>
                <a:lnTo>
                  <a:pt x="40930" y="21600"/>
                </a:lnTo>
                <a:lnTo>
                  <a:pt x="39530" y="20200"/>
                </a:lnTo>
                <a:lnTo>
                  <a:pt x="39530" y="1400"/>
                </a:lnTo>
                <a:close/>
              </a:path>
              <a:path fill="darkenLess" w="40930" h="21600">
                <a:moveTo>
                  <a:pt x="40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30" y="20200"/>
                </a:lnTo>
                <a:close/>
              </a:path>
              <a:path fill="lighten" w="40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Order of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747800"/>
            <a:ext cx="1465200" cy="808200"/>
          </a:xfrm>
          <a:custGeom>
            <a:avLst/>
            <a:gdLst>
              <a:gd name="textAreaLeft" fmla="*/ 52200 w 1465200"/>
              <a:gd name="textAreaRight" fmla="*/ 1413000 w 146520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9151" h="21600">
                <a:moveTo>
                  <a:pt x="0" y="0"/>
                </a:moveTo>
                <a:lnTo>
                  <a:pt x="39151" y="0"/>
                </a:lnTo>
                <a:lnTo>
                  <a:pt x="39151" y="21600"/>
                </a:lnTo>
                <a:lnTo>
                  <a:pt x="0" y="21600"/>
                </a:lnTo>
                <a:close/>
              </a:path>
              <a:path fill="lightenLess" w="39151" h="21600">
                <a:moveTo>
                  <a:pt x="0" y="0"/>
                </a:moveTo>
                <a:lnTo>
                  <a:pt x="39151" y="0"/>
                </a:lnTo>
                <a:lnTo>
                  <a:pt x="37751" y="1400"/>
                </a:lnTo>
                <a:lnTo>
                  <a:pt x="1400" y="1400"/>
                </a:lnTo>
                <a:close/>
              </a:path>
              <a:path fill="darken" w="39151" h="21600">
                <a:moveTo>
                  <a:pt x="39151" y="0"/>
                </a:moveTo>
                <a:lnTo>
                  <a:pt x="39151" y="21600"/>
                </a:lnTo>
                <a:lnTo>
                  <a:pt x="37751" y="20200"/>
                </a:lnTo>
                <a:lnTo>
                  <a:pt x="37751" y="1400"/>
                </a:lnTo>
                <a:close/>
              </a:path>
              <a:path fill="darkenLess" w="39151" h="21600">
                <a:moveTo>
                  <a:pt x="39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1" y="20200"/>
                </a:lnTo>
                <a:close/>
              </a:path>
              <a:path fill="lighten" w="39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rue or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als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69120" y="1747800"/>
            <a:ext cx="1347480" cy="808200"/>
          </a:xfrm>
          <a:custGeom>
            <a:avLst/>
            <a:gdLst>
              <a:gd name="textAreaLeft" fmla="*/ 52200 w 1347480"/>
              <a:gd name="textAreaRight" fmla="*/ 1295280 w 134748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6006" h="21600">
                <a:moveTo>
                  <a:pt x="0" y="0"/>
                </a:moveTo>
                <a:lnTo>
                  <a:pt x="36006" y="0"/>
                </a:lnTo>
                <a:lnTo>
                  <a:pt x="36006" y="21600"/>
                </a:lnTo>
                <a:lnTo>
                  <a:pt x="0" y="21600"/>
                </a:lnTo>
                <a:close/>
              </a:path>
              <a:path fill="lightenLess" w="36006" h="21600">
                <a:moveTo>
                  <a:pt x="0" y="0"/>
                </a:moveTo>
                <a:lnTo>
                  <a:pt x="36006" y="0"/>
                </a:lnTo>
                <a:lnTo>
                  <a:pt x="34606" y="1400"/>
                </a:lnTo>
                <a:lnTo>
                  <a:pt x="1400" y="1400"/>
                </a:lnTo>
                <a:close/>
              </a:path>
              <a:path fill="darken" w="36006" h="21600">
                <a:moveTo>
                  <a:pt x="36006" y="0"/>
                </a:moveTo>
                <a:lnTo>
                  <a:pt x="36006" y="21600"/>
                </a:lnTo>
                <a:lnTo>
                  <a:pt x="34606" y="20200"/>
                </a:lnTo>
                <a:lnTo>
                  <a:pt x="34606" y="1400"/>
                </a:lnTo>
                <a:close/>
              </a:path>
              <a:path fill="darkenLess" w="36006" h="21600">
                <a:moveTo>
                  <a:pt x="36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6" y="20200"/>
                </a:lnTo>
                <a:close/>
              </a:path>
              <a:path fill="lighten" w="36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>
            <a:hlinkClick r:id="rId2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2880" y="1747800"/>
            <a:ext cx="1417320" cy="808200"/>
          </a:xfrm>
          <a:custGeom>
            <a:avLst/>
            <a:gdLst>
              <a:gd name="textAreaLeft" fmla="*/ 52200 w 1417320"/>
              <a:gd name="textAreaRight" fmla="*/ 1365120 w 141732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7872" h="21600">
                <a:moveTo>
                  <a:pt x="0" y="0"/>
                </a:moveTo>
                <a:lnTo>
                  <a:pt x="37872" y="0"/>
                </a:lnTo>
                <a:lnTo>
                  <a:pt x="37872" y="21600"/>
                </a:lnTo>
                <a:lnTo>
                  <a:pt x="0" y="21600"/>
                </a:lnTo>
                <a:close/>
              </a:path>
              <a:path fill="lightenLess" w="37872" h="21600">
                <a:moveTo>
                  <a:pt x="0" y="0"/>
                </a:moveTo>
                <a:lnTo>
                  <a:pt x="37872" y="0"/>
                </a:lnTo>
                <a:lnTo>
                  <a:pt x="36472" y="1400"/>
                </a:lnTo>
                <a:lnTo>
                  <a:pt x="1400" y="1400"/>
                </a:lnTo>
                <a:close/>
              </a:path>
              <a:path fill="darken" w="37872" h="21600">
                <a:moveTo>
                  <a:pt x="37872" y="0"/>
                </a:moveTo>
                <a:lnTo>
                  <a:pt x="37872" y="21600"/>
                </a:lnTo>
                <a:lnTo>
                  <a:pt x="36472" y="20200"/>
                </a:lnTo>
                <a:lnTo>
                  <a:pt x="36472" y="1400"/>
                </a:lnTo>
                <a:close/>
              </a:path>
              <a:path fill="darkenLess" w="37872" h="21600">
                <a:moveTo>
                  <a:pt x="37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72" y="20200"/>
                </a:lnTo>
                <a:close/>
              </a:path>
              <a:path fill="lighten" w="37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Equa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7840" y="1747800"/>
            <a:ext cx="1376280" cy="808200"/>
          </a:xfrm>
          <a:custGeom>
            <a:avLst/>
            <a:gdLst>
              <a:gd name="textAreaLeft" fmla="*/ 52200 w 1376280"/>
              <a:gd name="textAreaRight" fmla="*/ 1324080 w 137628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6776" h="21600">
                <a:moveTo>
                  <a:pt x="0" y="0"/>
                </a:moveTo>
                <a:lnTo>
                  <a:pt x="36776" y="0"/>
                </a:lnTo>
                <a:lnTo>
                  <a:pt x="36776" y="21600"/>
                </a:lnTo>
                <a:lnTo>
                  <a:pt x="0" y="21600"/>
                </a:lnTo>
                <a:close/>
              </a:path>
              <a:path fill="lightenLess" w="36776" h="21600">
                <a:moveTo>
                  <a:pt x="0" y="0"/>
                </a:moveTo>
                <a:lnTo>
                  <a:pt x="36776" y="0"/>
                </a:lnTo>
                <a:lnTo>
                  <a:pt x="35376" y="1400"/>
                </a:lnTo>
                <a:lnTo>
                  <a:pt x="1400" y="1400"/>
                </a:lnTo>
                <a:close/>
              </a:path>
              <a:path fill="darken" w="36776" h="21600">
                <a:moveTo>
                  <a:pt x="36776" y="0"/>
                </a:moveTo>
                <a:lnTo>
                  <a:pt x="36776" y="21600"/>
                </a:lnTo>
                <a:lnTo>
                  <a:pt x="35376" y="20200"/>
                </a:lnTo>
                <a:lnTo>
                  <a:pt x="35376" y="1400"/>
                </a:lnTo>
                <a:close/>
              </a:path>
              <a:path fill="darkenLess" w="36776" h="21600">
                <a:moveTo>
                  <a:pt x="36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76" y="20200"/>
                </a:lnTo>
                <a:close/>
              </a:path>
              <a:path fill="lighten" w="36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chin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4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5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6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7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8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9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1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2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3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4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5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7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8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9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0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1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2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pperplate Gothic Bold"/>
              </a:rPr>
              <a:t>Double Jeopardy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3, 7, 12, 18, 25, ___, ___, ___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If the pattern unit has thre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letters in it, can you fill in th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blanks?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Arial"/>
              </a:rPr>
              <a:t>X __ O X O __ __ __ __ X __ __ __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438280" y="1676520"/>
          <a:ext cx="4191120" cy="3838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514600" y="1752480"/>
          <a:ext cx="4191120" cy="3838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14600" y="1828800"/>
          <a:ext cx="4191120" cy="3838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6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6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9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3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447920"/>
          <a:ext cx="3733920" cy="474480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743200" y="1523880"/>
          <a:ext cx="3733920" cy="390528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d + d – 5 =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6 x     =  2 x     + 24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243828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43828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+ 4 =      +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971800"/>
            <a:ext cx="838080" cy="838080"/>
          </a:xfrm>
          <a:prstGeom prst="octagon">
            <a:avLst>
              <a:gd name="adj" fmla="val 29287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16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 = 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25146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373392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251460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251460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380988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12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= 6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24382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4382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9200" y="24382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51814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73392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1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24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= 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25146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25146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672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510552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502920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243828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5 + 6 x 7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4 + (6 + 4) – 10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8 + 5 x 3 – 2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+ 24 — 3 x 2 - 5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3048120"/>
            <a:ext cx="152280" cy="15228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505320"/>
            <a:ext cx="152280" cy="15228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Arial"/>
              </a:rPr>
              <a:t>8 + 3 x 6 – (18—2) = ?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352680"/>
            <a:ext cx="152640" cy="15264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5880" y="2895480"/>
            <a:ext cx="152640" cy="15264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4 x 5 = 10 x 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6 x 3 = 3 x 6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8 + n = 4 x 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14 + 12 = 13 x 2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+ 7 + 7 + 7 = 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x 9 + 10 = 15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25 = c + t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Write an equation to fit this problem and solve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Lee delivers 47 newspapers each day.  How many does he deliver in 14 days?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If      = 4 and               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=     + 2 and                 + 5 = 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What is the value of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and       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895480"/>
            <a:ext cx="914400" cy="762120"/>
          </a:xfrm>
          <a:custGeom>
            <a:avLst/>
            <a:gdLst>
              <a:gd name="textAreaLeft" fmla="*/ 214920 w 914400"/>
              <a:gd name="textAreaRight" fmla="*/ 699120 w 91440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1981080"/>
            <a:ext cx="914400" cy="762120"/>
          </a:xfrm>
          <a:custGeom>
            <a:avLst/>
            <a:gdLst>
              <a:gd name="textAreaLeft" fmla="*/ 214920 w 914400"/>
              <a:gd name="textAreaRight" fmla="*/ 699120 w 91440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2666880"/>
            <a:ext cx="1067040" cy="91440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334120"/>
            <a:ext cx="1067040" cy="91440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3581280"/>
            <a:ext cx="1066680" cy="91440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5334120"/>
            <a:ext cx="1143000" cy="990360"/>
          </a:xfrm>
          <a:prstGeom prst="sun">
            <a:avLst>
              <a:gd name="adj" fmla="val 25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581280"/>
            <a:ext cx="1143000" cy="990720"/>
          </a:xfrm>
          <a:prstGeom prst="sun">
            <a:avLst>
              <a:gd name="adj" fmla="val 25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If the pattern continues, what will the 18</a:t>
            </a:r>
            <a:r>
              <a:rPr b="1" lang="en-US" sz="48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 shape be?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3276720"/>
            <a:ext cx="83844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2057400"/>
            <a:ext cx="83844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13372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200400"/>
            <a:ext cx="1143000" cy="99072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981080"/>
            <a:ext cx="1143000" cy="99072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2057400"/>
            <a:ext cx="1143000" cy="99072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429000"/>
            <a:ext cx="990720" cy="762120"/>
          </a:xfrm>
          <a:prstGeom prst="hexagon">
            <a:avLst>
              <a:gd name="adj" fmla="val 32499"/>
              <a:gd name="vf" fmla="val 11547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53280" y="2133720"/>
            <a:ext cx="990720" cy="761760"/>
          </a:xfrm>
          <a:prstGeom prst="hexagon">
            <a:avLst>
              <a:gd name="adj" fmla="val 32514"/>
              <a:gd name="vf" fmla="val 11547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2133720"/>
            <a:ext cx="990720" cy="761760"/>
          </a:xfrm>
          <a:prstGeom prst="hexagon">
            <a:avLst>
              <a:gd name="adj" fmla="val 32514"/>
              <a:gd name="vf" fmla="val 11547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4290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057400"/>
            <a:ext cx="83808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13372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One, three, two, four, three, ____, ____, ____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a, b, d, g, __, __, __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Craig Smith</dc:creator>
  <dc:description/>
  <dc:language>en-US</dc:language>
  <cp:lastModifiedBy>afloyd</cp:lastModifiedBy>
  <dcterms:modified xsi:type="dcterms:W3CDTF">2007-11-01T13:53:42Z</dcterms:modified>
  <cp:revision>71</cp:revision>
  <dc:subject/>
  <dc:title>Formula Jeopardy!!!</dc:title>
</cp:coreProperties>
</file>